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5120" y="2437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5120" y="4308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4308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2437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08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Click to edit the title text format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"/>
          <p:cNvSpPr/>
          <p:nvPr/>
        </p:nvSpPr>
        <p:spPr>
          <a:xfrm>
            <a:off x="5105520" y="561960"/>
            <a:ext cx="3200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3280" y="6234120"/>
            <a:ext cx="6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F007-6190-4BDB-8286-4BAEA6F6363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447920" cy="5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1" lang="en-US" sz="6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1988640"/>
            <a:ext cx="8713800" cy="30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ater  Supply and Sanitation SWAPs</a:t>
            </a:r>
            <a:r>
              <a:rPr b="1" lang="en-US" sz="4000" spc="-1" strike="noStrike">
                <a:solidFill>
                  <a:srgbClr val="ffffff"/>
                </a:solidFill>
                <a:latin typeface="Palatino Linotype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What would it take to accelerate WSS SWAps in Africa?</a:t>
            </a:r>
            <a:br>
              <a:rPr sz="2400"/>
            </a:b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EUWI Finance Working Group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Stockholm, August 25 2006</a:t>
            </a:r>
            <a:br>
              <a:rPr sz="6700"/>
            </a:br>
            <a:endParaRPr b="1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3640" y="5768640"/>
            <a:ext cx="73911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Meera Meht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Water and Sanitation Program – Africa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upport activities by Water and Sanitation Program in Africa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o assist governments i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mproving sector readines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approach and country process for sector financing strategie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WIF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, sect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dget and MTE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and sector information and monitoring systems (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IM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 – adapt tools with lessons from country suppor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Country-owned MDG road map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– support consultation process at country level to develop sector program and investment pla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upport opportunities for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outh-south learning and experience shar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– areas of concern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adiness of donors – continui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need for attribution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ecent reemergence of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duciary concerns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akes additional demands on SWA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adequate focus on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information and monitoring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–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anitation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inues to be a difficult issue – multi-ministerial mandates and lack of agreement on ‘right’ approaches make it difficult to ensure ‘sector readiness’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4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Thank You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3499920"/>
            <a:ext cx="77724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87a"/>
                </a:solidFill>
                <a:latin typeface="Palatino Linotype"/>
              </a:rPr>
              <a:t>Outline</a:t>
            </a:r>
            <a:endParaRPr b="1" lang="en-US" sz="36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wha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SWAp and its benefits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country experienc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What is needed to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accelerate / increase SWAp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in WSS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nd, a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word of caution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392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reminder – what is SWAp?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Most significant public funding for the sector supports a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single sector policy and expenditure program under government leadership,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adopting common approaches across the sector, and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-35028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Palatino Linotype"/>
              </a:rPr>
              <a:t>progressing towards relying on government procedures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70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to disburse and account for all public expenditure, however funded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20480" indent="-420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But it is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not necessarily Budget Suppor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Pooled Fund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are not a must!!!!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otential Benefits of a SWAp for the Client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Uniform approac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rules makes consistent implementation and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caling u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asier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ngthen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’s own systems and enhances ownershi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ver tim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reduces transaction cost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for aid coordination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hanc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predictability for external financ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eamlines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and reporting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560" y="148428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revailing WSS sector context in many African countrie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 large number of donors and funders – but with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own priorities and rules of engagemen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have coherent sector budgets and allocation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nerally a sector policy exists – but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lack of a costed program and financing strateg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, making it difficult to implement the policy, and monitoring continues to be the weak link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04240" indent="-3654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nclave projects continue to b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islands of excelle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hat fail to build up local systems, making them unsustainable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7280" y="404280"/>
            <a:ext cx="453708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Country Experienc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leader, successful SWAp, PRSC for RWS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Tanzan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for RWSS SWAp, jointly by government and donors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Keny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reforms in place; systematic approach to donor coordination and attempt to address sector readiness (SIP, 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Zamb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– emerging experience for RWSS SWAp, jointly by government and donors, attempt to evolve sector readiness (financing strategy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enin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- emerging experience for RWSS SWAp, jointly by government and donors (agreed sector strategy, financing strategy,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Senegal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 (SIP, sector information and monitoring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Burk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emerging experience linked to MDG Road Map, Development of a Sector Budget Program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Mozambique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attempted but not successfully in the past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Palatino Linotype"/>
              </a:rPr>
              <a:t>Ethiopi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government has used the approach in the Bank project to guide sector investments and initiated work on financing strategy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700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SWAp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Palatino Linotype"/>
              </a:rPr>
              <a:t>Building Blocks</a:t>
            </a:r>
            <a:r>
              <a:rPr b="1" lang="en-US" sz="2800" spc="-1" strike="noStrike">
                <a:solidFill>
                  <a:srgbClr val="000000"/>
                </a:solidFill>
                <a:latin typeface="Palatino Linotype"/>
              </a:rPr>
              <a:t> at country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Sector Readiness for SWAp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Policy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rategy with Government leadership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Budget and MTEF-linke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ector Program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ect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Information and Performance Monitoring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System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434160" indent="-434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Harmonization and consultation process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Formal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donor coordin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process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partnership principles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Process towards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harmonizing government/donor fiduciary and safeguard processes 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(FM, procurement, env/social)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95960" indent="-361800"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Systematic mechanisms for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stakeholder consultation</a:t>
            </a:r>
            <a:r>
              <a:rPr b="0" lang="en-US" sz="2200" spc="-1" strike="noStrike">
                <a:solidFill>
                  <a:srgbClr val="000000"/>
                </a:solidFill>
                <a:latin typeface="Palatino Linotype"/>
              </a:rPr>
              <a:t> and </a:t>
            </a:r>
            <a:r>
              <a:rPr b="1" lang="en-US" sz="2200" spc="-1" strike="noStrike">
                <a:solidFill>
                  <a:srgbClr val="cc3300"/>
                </a:solidFill>
                <a:latin typeface="Palatino Linotype"/>
              </a:rPr>
              <a:t>capacity building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87a"/>
                </a:solidFill>
                <a:latin typeface="Palatino Linotype"/>
              </a:rPr>
              <a:t>Possible Links to Financing Modalities</a:t>
            </a:r>
            <a:endParaRPr b="1" lang="en-US" sz="3200" spc="-1" strike="noStrike">
              <a:solidFill>
                <a:srgbClr val="00687a"/>
              </a:solidFill>
              <a:latin typeface="Palatino Linotyp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777708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6394320"/>
            <a:ext cx="79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yer P. et. al. 2006. “Budget Support Primer.”, World B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6760"/>
            <a:ext cx="2124000" cy="6426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W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Building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27082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2708280"/>
            <a:ext cx="50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19280" y="2781360"/>
            <a:ext cx="5047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19280" y="2781360"/>
            <a:ext cx="5047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2781360"/>
            <a:ext cx="50472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3716280"/>
            <a:ext cx="161928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Improved predic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524720" y="4365720"/>
            <a:ext cx="216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5451480"/>
            <a:ext cx="2158920" cy="916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Varying mix of external fina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4645080" y="443664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48360" y="443700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148360" y="4724280"/>
            <a:ext cx="129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8283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Lessons from country experiences…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ong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government lead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essential especially from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and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ector ministry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akeholder consultations (with regular fora for joint decisions) help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uild confidence and enhance ownershi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of the strategies and SIP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Getting the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basics righ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is important in each SWAp building block – but need to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start with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Palatino Linotype"/>
              </a:rPr>
              <a:t>what is possible and adapt sequencing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to local country realitie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23:05:23Z</dcterms:created>
  <dc:creator>Addison</dc:creator>
  <dc:description/>
  <dc:language>en-US</dc:language>
  <cp:lastModifiedBy>Vanessa Celosse</cp:lastModifiedBy>
  <cp:lastPrinted>2003-08-13T21:38:48Z</cp:lastPrinted>
  <dcterms:modified xsi:type="dcterms:W3CDTF">2006-08-25T05:13:12Z</dcterms:modified>
  <cp:revision>353</cp:revision>
  <dc:subject/>
  <dc:title>PowerPoint Presentation</dc:title>
</cp:coreProperties>
</file>